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4DF9-A12E-43E6-A2C4-D34F904C4A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9832-CB55-4B57-B9B6-2BB5ECFC92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EF4C-299C-43DA-A33B-411FF498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062-4CB5-4E89-B051-A3BA5A43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05B-D7E3-4CA2-ACDB-DB0C3B13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450-179D-4DF1-85DB-04B04993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855-ABC2-4DE9-B15E-D606B74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224-5B88-4AE6-AC37-8690F8BD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108-5C73-4ED3-A3EF-B6D6112B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C5B-3F44-4350-872E-7F02854E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B60-A6E3-42A0-9692-0E43C0E8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09C-FD22-4C80-9FE9-EA498DF5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0DD-2074-4EBD-A0F5-7F62ABB5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FCA-21D1-4DC1-9582-6FFD7C0C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40CF-6B94-43DC-B9ED-98EAAB4533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Quiz about “ecocide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09264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98989"/>
                </a:solidFill>
                <a:latin typeface="Calibri"/>
              </a:rPr>
              <a:t>NASA Goddard Space Flight (under a Creative Commons Licence)</a:t>
            </a:r>
            <a:r>
              <a:rPr b="0" lang="en-GB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6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ecoci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by reading this short tex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The_Earth_needs_a_good_law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03640" y="3068640"/>
            <a:ext cx="5619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 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Watch the first 5 mins of this TED talk to see if these 4 statements are True or Fals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tedxtalks.ted.com/video/TEDxExeter-Polly-Higgins-Eco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thought that changed Polly’s life was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50 million people already agree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ly says that ecocide is as bad as geno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 5 “crimes against peace” were agreed just after World War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ey: 1) F  2) T  3) T  4) 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ting? Now watch the rest of the TED talk. As you watch, think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wellbeing of the people” related to the enviro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e destruction of the environment similar to slave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profit” related to “ecocid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ecocide” related to natural jus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11:20:09Z</dcterms:created>
  <dc:creator>Linda Ruas</dc:creator>
  <dc:description/>
  <dc:language>en-US</dc:language>
  <cp:lastModifiedBy>Linda Ruas</cp:lastModifiedBy>
  <dcterms:modified xsi:type="dcterms:W3CDTF">2014-05-27T11:34:07Z</dcterms:modified>
  <cp:revision>4</cp:revision>
  <dc:subject/>
  <dc:title>Quiz about “ecocide”</dc:title>
</cp:coreProperties>
</file>